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E1CD-3A29-4118-8A8F-69B968742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1881-EB6E-46ED-8D39-B10028B0840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write 1-2 “open” questions for their students.  Think-Pair-Sh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9C8-26DA-4E1A-A021-247A8476F8A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A34-DAD8-4090-B09C-8B646B00BA9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EDA2-323A-4B26-BC91-53601FF88AE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3 year research study, QUASAR researchers coded the instructional tasks used in 144 lessons across four high-poverty middle schools.  These bars represent the percentage of task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ach of the levels of cognitive demand.   Teachers in these schools were engaging in professional development aimed at enhancing their classroom instr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1E89-F356-488D-BB88-EB4E1BA432E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is to show the Quasar research that points out that even if a high level task is not implemented as well as possible, it still results in more learning than using a low level task.  None of their research documented a case of a low level task raising to a level of high implementation.  This should be reassuring to teachers just beginning to use high level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0FA5-12D9-4707-B337-CD6D87E33E0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.  Ask participants to sort out cards as to level of cognitive demand.  High, medium,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C096-0340-49F5-80F5-0C06969FAE7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nfo into a memorized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Hand length and height activity (discussion questions- p. 7) for samples of these types of questions.- Participants are given 5 minutes to search and id these types of question in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to share out responses.– 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F607-C8CB-46A5-A313-EB334E881DD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reference activity- page 4,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Ms. Browns’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47E6-ADA6-4CF4-AD8C-840D09F0CEB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the manipulation of prior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There are 5 students standing together.  If you are the median of this group of 5 in height, who might the other 4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8D0E-377C-448B-99DF-693167E60F0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participants to activity to find- 2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oda can and density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BD6C-326B-4C93-B2B0-281B43F4C8E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4, #3… Is the relationship between hand sizes the same for people of all ages?  Of males and females? Explain your responses. How could we test these hypothes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6, #11 -  Do the statistics (mean, median, mode) help?  Does the graph help?  If so, 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to activity- page 7, discussion question #2-  According to your data, was height associated with hand length?  How did you know? Did one seem to cause the other? 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‘Measuring Penny” 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other options and extension on 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 to remember to reconnect to the original set of objectives—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9A85-AA39-4DC7-A39B-F2BB74A0CBD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15F6-1E9D-44E8-81E3-8C92517048D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articipants write the questions generated on post-it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some success is also cru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B96D-3760-4A24-8EAE-A7E674367FA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7BD0-1FA2-4801-944F-6F8B320B1D6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emorized the algorithms, but did not understand the concept of why you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by 5 the unit has changed from one-- or repeated subtraction of 5 or you may think of grouping by 5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five’s are in 25, how many bundles of 5 can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anipula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2FA-771D-444C-B370-10871E056E3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00"/>
                </a:solidFill>
                <a:latin typeface="Arial"/>
              </a:rPr>
              <a:t>SAS Secondary Mathematics Teacher Leadership Academy, Year 1</a:t>
            </a:r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5FF5-4D82-44F2-B744-37C53239C08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484-A6DF-48BC-B7CD-D8CC0A13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7C5-4E45-42B5-8CCE-BCC1E22F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86E-D87B-43A9-9599-1A3CD0DC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B3A-A75D-4E1E-BEEB-9F1F0D54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2335-806D-46E2-86E0-018E6CC6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12D9-753C-482E-8549-283EC36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443C-E43E-4A80-A35F-DD56A8C3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6D83-5CD7-4FE0-B3CB-BBB15F8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1E5E-8746-4D15-9FAE-D959884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8169-F251-44F7-8FAA-19CF5566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778B-DA1A-4CFB-AE41-A97F199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D31-B827-41E7-AD3F-B66188D1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512-53C6-4862-BA21-6C55CA9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8875-974A-45B4-8705-D044CBF8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2A5B-AE37-4895-99A8-5C395CEA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D052-CAD3-41C6-B795-DFB4D280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623D-7151-41A2-A53C-3EC8FFA4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0DB-B0E5-4473-9AF5-D9F702E2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7AC-1A38-46C0-9BA0-EE3FC279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46F-AC93-42D5-88A9-4B431854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247-1A35-4EE6-B3D3-4AE149CE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957-AD88-4DC8-A8D4-871A195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7BE-A8E6-4361-8D20-34FEE3A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8D9-209B-4A75-8912-306A4968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FFB3-D81C-447A-8E48-1A278BDB8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7559-B95A-496D-936A-4E3C55D1C6B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timer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ormative%20assess%20%20probe.pdf" TargetMode="Externa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b.utexas.edu/pbl/TIPS/question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%20%20Pa%20Kettle%20Math%20copy.m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w and Why to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k Questions i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ath and Scien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STA Confer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ch 21, 2010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Cheryl Everett &amp; 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3" descr="LS00938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753080"/>
            <a:ext cx="609480" cy="84132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913-6BDE-40F2-B4DD-C688542630F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Chalkboard"/>
              </a:rPr>
              <a:t>Ms Brown’s Tasks</a:t>
            </a:r>
            <a:r>
              <a:rPr b="1" lang="en-US" sz="1700" spc="-1" strike="noStrike">
                <a:solidFill>
                  <a:srgbClr val="320000"/>
                </a:solidFill>
                <a:latin typeface="Chalkboard"/>
              </a:rPr>
              <a:t> </a:t>
            </a:r>
            <a:endParaRPr b="0" lang="en-US" sz="17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7777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If Ms. Brown's students want their rabbits to have as much room as possible, how long should each of the sides of the pen be?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76"/>
              </a:spcBef>
              <a:buClr>
                <a:srgbClr val="33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00"/>
                </a:solidFill>
                <a:latin typeface="Chalkboard"/>
                <a:ea typeface="Times New Roman"/>
              </a:rPr>
              <a:t>How would you go about determining the pen with the most room for any amount of fencing?  </a:t>
            </a:r>
            <a:endParaRPr b="0" lang="en-US" sz="19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2</a:t>
            </a:r>
            <a:endParaRPr b="0" lang="en-US" sz="15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784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Chalkboard"/>
              </a:rPr>
              <a:t>Ms. Brown’s class will raise rabbits for their spring science fair.  They have 24 feet of fencing with which to build a rectangular rabbit pen in which they will keep the rabbit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20000"/>
                </a:solidFill>
                <a:latin typeface="Arial"/>
              </a:rPr>
              <a:t>Cognitive Demands at Set Up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674640" y="1822320"/>
          <a:ext cx="69566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822320"/>
                    <a:ext cx="69566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4"/>
          <p:cNvSpPr/>
          <p:nvPr/>
        </p:nvSpPr>
        <p:spPr>
          <a:xfrm>
            <a:off x="4495680" y="594360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Stein, Grover, &amp; Henningsen, 199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320000"/>
                </a:solidFill>
                <a:latin typeface="Arial"/>
              </a:rPr>
              <a:t>Assessing Student Learn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sk &amp; Set-Up        Implementation         Student Learning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907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581280" y="2514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733920" y="2514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8380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9907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High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81280" y="365760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733920" y="36576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209680" y="28195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09680" y="403848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6629400" y="2514600"/>
            <a:ext cx="175248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629400" y="3657600"/>
            <a:ext cx="17524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29400" y="4952880"/>
            <a:ext cx="17524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8380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581280" y="4952880"/>
            <a:ext cx="13716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066680" y="49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3733920" y="49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 Leve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209680" y="5334120"/>
            <a:ext cx="129564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952880" y="28195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952880" y="403848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952880" y="5334120"/>
            <a:ext cx="1676520" cy="0"/>
          </a:xfrm>
          <a:prstGeom prst="line">
            <a:avLst/>
          </a:prstGeom>
          <a:ln w="19080">
            <a:solidFill>
              <a:srgbClr val="33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67057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Significan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670572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Moderate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 Box 27"/>
          <p:cNvSpPr/>
          <p:nvPr/>
        </p:nvSpPr>
        <p:spPr>
          <a:xfrm>
            <a:off x="670572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Lowest Gains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…….what are “good”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s and ques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are the attributes of high level and low level tasks and question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o you define high level and low level questions and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B42D-0732-461C-AA17-3154E09E421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ddress Bloom’s Taxonom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beyond memoriza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recall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require students to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nderstand     --  App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          -- Evalu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reate            -- Rememb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4" name="Picture 4" descr="Picture 1.png"/>
          <p:cNvPicPr/>
          <p:nvPr/>
        </p:nvPicPr>
        <p:blipFill>
          <a:blip r:embed="rId4"/>
          <a:stretch/>
        </p:blipFill>
        <p:spPr>
          <a:xfrm>
            <a:off x="6019920" y="1905120"/>
            <a:ext cx="2754360" cy="361476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3E1A-9516-4566-81AE-CCA848E2DEDE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“open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ite a variety of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ve several acceptable answ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8" name="Picture 3" descr="BU005295.png"/>
          <p:cNvPicPr/>
          <p:nvPr/>
        </p:nvPicPr>
        <p:blipFill>
          <a:blip r:embed="rId4"/>
          <a:stretch/>
        </p:blipFill>
        <p:spPr>
          <a:xfrm>
            <a:off x="7162920" y="4800600"/>
            <a:ext cx="1417680" cy="114156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2BD-93F3-4678-82C8-37631A7BF66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the manipulation of prior inform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:  Carly has blue eyes.  Both of her parents have brown eyes.  What were the chances that Carly would inherit blue eyes?  How did this happe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838080" y="6019920"/>
            <a:ext cx="76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CEE-0730-4DFE-9531-484211A1773C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olve students in observing and/or describing an event or obj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:  Discrepant events, demo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66" name="Picture 3" descr="hm00017_.wmf"/>
          <p:cNvPicPr/>
          <p:nvPr/>
        </p:nvPicPr>
        <p:blipFill>
          <a:blip r:embed="rId3"/>
          <a:stretch/>
        </p:blipFill>
        <p:spPr>
          <a:xfrm>
            <a:off x="7620120" y="4272120"/>
            <a:ext cx="950760" cy="147312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6385-0EC6-4A9B-B128-41C89F9B0FF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justify or explain their respons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ce Wa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0" name="Picture 4" descr="j0186106.pict"/>
          <p:cNvPicPr/>
          <p:nvPr/>
        </p:nvPicPr>
        <p:blipFill>
          <a:blip r:embed="rId4"/>
          <a:stretch/>
        </p:blipFill>
        <p:spPr>
          <a:xfrm>
            <a:off x="6781680" y="434340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1F34-CA53-467C-A3D9-726F0880606D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” High Level Task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e diverg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quire students to take ownership of their own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4" name="Picture 4" descr="j0186152.pict"/>
          <p:cNvPicPr/>
          <p:nvPr/>
        </p:nvPicPr>
        <p:blipFill>
          <a:blip r:embed="rId3"/>
          <a:stretch/>
        </p:blipFill>
        <p:spPr>
          <a:xfrm>
            <a:off x="7086600" y="4495680"/>
            <a:ext cx="914400" cy="14432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C036-FC11-498E-9999-A5457D7F41C4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y focus on questioning in task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QUASAR proj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are the characteristics of “good” questions and tas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ing and classifying ta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signing a task based on appropriate cognitive dema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5FF3-FB1D-43F5-9EA4-C23A2315D01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a “good” question or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plain why this is a “good” question or  task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78" name="Picture 3" descr="BU005295.png"/>
          <p:cNvPicPr/>
          <p:nvPr/>
        </p:nvPicPr>
        <p:blipFill>
          <a:blip r:embed="rId3"/>
          <a:stretch/>
        </p:blipFill>
        <p:spPr>
          <a:xfrm>
            <a:off x="7543800" y="5257800"/>
            <a:ext cx="1025640" cy="82548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A874-2FC9-4F8C-B031-61C31E32503D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conclusion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469F-F852-4FDB-B5E4-185DFF5FE850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Vision of K-12 Studen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ECF-F6EC-4BAF-A93E-1DFFBBB737D5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914400" y="15238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Food for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00"/>
                </a:solidFill>
                <a:latin typeface="Arial"/>
              </a:rPr>
              <a:t>Thought…</a:t>
            </a:r>
            <a:endParaRPr b="0" lang="en-US" sz="5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765000" y="4648320"/>
            <a:ext cx="83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level of questions/tasks are these students asking for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ichinger,John. Activities Linking Science with Math 5-8. NSTA Press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nel,G.Ivan and Lee Hannel. Highly Effective Questioning. 2005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plementing Standards-Based Mathematics Instruction, Stein, Smith, Hennjngsen &amp; Silver. 2009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Keely,Page and Joyce Tugel. Uncovering Student Ideas in Science. Vol 4. 2009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ullivan, Peter and Pat Lilburn. Good Questions for Math Teaching. Sausalito,CA. Math Solutions Publications. 2002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Tips for Teachers: Asking Good Questions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	http://www.edb.utexas.edu/pbl/TIPS/question.html#hot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,  2001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A1F8-0437-4CAC-9D1B-28EBA1CBE7CD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tact us:</a:t>
            </a:r>
            <a:br>
              <a:rPr sz="4400"/>
            </a:b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 Graeff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4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marjorieg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 Everet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ster County Intermediate Unit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55 Boot Rd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Downingtown, PA 19335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484-237-5336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cheryle@cciu.org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5226-ADF6-4D2A-8824-59A422C62C6B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)The collecting of evidence of student understandings and misconceptions is more important than a “correct” answ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2)The level of a question or a task is ke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)Students need to feel some uneasiness with a task to produce enduring understandings (cognitive demand)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E06-AE77-43A6-8328-440860573749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"/>
              </a:rPr>
              <a:t>Let’s collect some evidence.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74B9-5B50-49CF-BAC8-89A236531597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 and Pa Kettle Do Mat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determine Ma and Pa’s thinking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questions would you ask to cause Ma and Pa to realize they had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would you clear up their misconception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070-E2C3-4194-8A2F-C2214EACDDD6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etting to the “root” of i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what are the elements of a “good” ques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how can these “good” questions become part of “good” task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A2B1-2EE1-4B8F-8A74-32A3C61E2EF1}" type="slidenum">
              <a:rPr b="0" lang="en-US" sz="14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Focus on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ing in Task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heart of teaching well is the core challenge of getting learners engaged in productive work.  Tasks are the sites for engaging students in core science and mathematical activiti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QUASAR projec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4080" y="628200"/>
            <a:ext cx="776448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20000"/>
                </a:solidFill>
                <a:latin typeface="Chalkboard"/>
              </a:rPr>
              <a:t> </a:t>
            </a:r>
            <a:r>
              <a:rPr b="1" lang="en-US" sz="3400" spc="-1" strike="noStrike">
                <a:solidFill>
                  <a:srgbClr val="320000"/>
                </a:solidFill>
                <a:latin typeface="Chalkboard"/>
              </a:rPr>
              <a:t>Martha Task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800080"/>
            <a:ext cx="78566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Chalkboard"/>
              </a:rPr>
              <a:t>	</a:t>
            </a:r>
            <a:r>
              <a:rPr b="0" lang="en-US" sz="2600" spc="-1" strike="noStrike">
                <a:solidFill>
                  <a:srgbClr val="330000"/>
                </a:solidFill>
                <a:latin typeface="Chalkboard"/>
              </a:rPr>
              <a:t>Martha was recarpeting her bedroom which was 15 feet long and 10 feet wide.  How many square feet of carpeting will she need to purchase?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0000"/>
                </a:solidFill>
                <a:latin typeface="Chalkboard"/>
                <a:ea typeface="Times New Roman"/>
              </a:rPr>
              <a:t>Stein, Smith, Henningsen, &amp; Silver, 2000, p. 1</a:t>
            </a:r>
            <a:endParaRPr b="0" lang="en-US" sz="1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3:16:14Z</dcterms:created>
  <dc:creator>Ron Antinori</dc:creator>
  <dc:description/>
  <dc:language>en-US</dc:language>
  <cp:lastModifiedBy>CCIU</cp:lastModifiedBy>
  <dcterms:modified xsi:type="dcterms:W3CDTF">2010-03-21T00:29:20Z</dcterms:modified>
  <cp:revision>86</cp:revision>
  <dc:subject/>
  <dc:title>How and Why to Ask Questions</dc:title>
</cp:coreProperties>
</file>