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6A21-B55B-4617-8779-33770B45B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5A65-BEDB-4CFD-BE6A-D6B8C6FF04C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articipants to write 1-2 “open” questions for their students.  Think-Pair-Sh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D522-FA69-4372-BFB0-45B6D26EF4C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A9CA-2F0E-4178-85FB-8C6B86ED8A6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3294-014B-4A3F-A14C-B59E5F7F686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3 year research study, QUASAR researchers coded the instructional tasks used in 144 lessons across four high-poverty middle schools.  These bars represent the percentage of task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u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ach of the levels of cognitive demand.   Teachers in these schools were engaging in professional development aimed at enhancing their classroom instr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B071-F184-4215-B1C4-D540C3827E2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is to show the Quasar research that points out that even if a high level task is not implemented as well as possible, it still results in more learning than using a low level task.  None of their research documented a case of a low level task raising to a level of high implementation.  This should be reassuring to teachers just beginning to use high level tas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7C1D-5F74-4677-B2E8-A23D983191D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task cards.  Ask participants to sort out cards as to level of cognitive demand.  High, medium, 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C656-83BD-4D83-AED5-D96E2A83FB5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nfo into a memorized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Hand length and height activity (discussion questions- p. 7) for samples of these types of questions.- Participants are given 5 minutes to search and id these types of question in the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to share out responses.– pag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28E4-B8F6-4C84-A07F-E3D9FAEA962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 reference activity- page 4,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Ms. Browns’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206B-1C54-4806-8B54-32FA420E47C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is the manipulation of prior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There are 5 students standing together.  If you are the median of this group of 5 in height, who might the other 4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46DD-36E3-40CC-A709-7C29A925F7E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participants to activity to find- 2 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oda can and density e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EA5B-AF4D-42CA-AABE-2CE97706967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to activity- page 4, #3… Is the relationship between hand sizes the same for people of all ages?  Of males and females? Explain your responses. How could we test these hypothes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to activity- page 6, #11 -  Do the statistics (mean, median, mode) help?  Does the graph help?  If so, 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to activity- page 7, discussion question #2-  According to your data, was height associated with hand length?  How did you know? Did one seem to cause the other?  How do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‘Measuring Penny” 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other options and extension on pag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 to remember to reconnect to the original set of objectives—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BAB1-5334-48D8-8D8C-CF39480DFAA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4881-92BC-4A76-93AD-B3B02165E31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articipants write the questions generated on post-it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ence some success is also cru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B947-E0AC-4576-8236-067A0D2B1CA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A15A-02A6-41DA-8688-A5F1B6B5896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emorized the algorithms, but did not understand the concept of why you div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by 5 the unit has changed from one-- or repeated subtraction of 5 or you may think of grouping by 5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five’s are in 25, how many bundles of 5 can you m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manipulat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DCDC-6019-4AC9-A697-8EBE7B498B9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7788-E4E7-4487-991E-CDC540D0581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DA4-B07C-4181-A32D-63F0A548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60D6-FDFD-4E7A-85F0-0B92002B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73EB-CC18-47E3-87EE-70E242E4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C4D-CFE2-4078-96F2-D410F18C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E828-658A-4C0A-B102-84EB5F64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40C0-C457-4464-937A-A7224F5B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C8D6-9BFD-4B8D-A37C-C66F3895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ACA0-45BA-48FD-A9B8-E2B755B6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2070-5276-4CE2-A03F-EEAC16C5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2EB8-CB9A-4FA0-8EEC-DD080C9F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0ACB-2C04-4D09-8B3B-4F86F32E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EA2-9C23-466A-94B0-EE16931B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C9BF-9040-49FD-861A-DC31707A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BE65-1C05-49E8-B9A3-D2A2797A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2A85-FD92-45AF-8ECD-B7CE2799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6D53-B4B3-4482-B265-AE696C45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0B18-C794-4DDE-8719-0C2DEE12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3AC5-DA71-40CB-92D6-3D64BCE8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F830-5E82-4885-95F3-04539A01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8E5D-7198-4354-AE50-09967EDB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50A7-E1E3-4E6A-BD8D-A7219A5F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BE15-28F4-4509-82F9-407F7DF0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6C3-502C-42D2-9890-82024936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E25F-B008-4283-86CA-B941B872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367C-8247-45E8-8898-2A6FD48B6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820C-FE21-41E5-872B-8E320DB3344F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timer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ormative%20assess%20%20probe.pdf" TargetMode="External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A-ZVCjfWf8" TargetMode="Externa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db.utexas.edu/pbl/TIPS/question.html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%20%20Pa%20Kettle%20Math%20copy.mov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w and Why to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sk Questions in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ath and Scienc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STA Conferenc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rch 21, 2010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Cheryl Everett &amp; Marjorie Graeff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3" name="Picture 3" descr="LS009382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4753080"/>
            <a:ext cx="609480" cy="8413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FFD6-4911-4667-92DF-0CB52B36E711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Chalkboard"/>
              </a:rPr>
              <a:t>Ms Brown’s Tasks</a:t>
            </a:r>
            <a:r>
              <a:rPr b="1" lang="en-US" sz="1700" spc="-1" strike="noStrike">
                <a:solidFill>
                  <a:srgbClr val="320000"/>
                </a:solidFill>
                <a:latin typeface="Chalkboard"/>
              </a:rPr>
              <a:t> </a:t>
            </a:r>
            <a:endParaRPr b="0" lang="en-US" sz="17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3581280"/>
            <a:ext cx="7777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76"/>
              </a:spcBef>
              <a:buClr>
                <a:srgbClr val="33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00"/>
                </a:solidFill>
                <a:latin typeface="Chalkboard"/>
                <a:ea typeface="Times New Roman"/>
              </a:rPr>
              <a:t>If Ms. Brown's students want their rabbits to have as much room as possible, how long should each of the sides of the pen be?</a:t>
            </a: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76"/>
              </a:spcBef>
              <a:buClr>
                <a:srgbClr val="33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00"/>
                </a:solidFill>
                <a:latin typeface="Chalkboard"/>
                <a:ea typeface="Times New Roman"/>
              </a:rPr>
              <a:t>How would you go about determining the pen with the most room for any amount of fencing?  </a:t>
            </a: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0000"/>
                </a:solidFill>
                <a:latin typeface="Chalkboard"/>
                <a:ea typeface="Times New Roman"/>
              </a:rPr>
              <a:t>Stein, Smith, Henningsen, &amp; Silver, 2000, p. 2</a:t>
            </a:r>
            <a:endParaRPr b="0" lang="en-US" sz="15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85800" y="2133720"/>
            <a:ext cx="7848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Chalkboard"/>
              </a:rPr>
              <a:t>Ms. Brown’s class will raise rabbits for their spring science fair.  They have 24 feet of fencing with which to build a rectangular rabbit pen in which they will keep the rabbits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20000"/>
                </a:solidFill>
                <a:latin typeface="Arial"/>
              </a:rPr>
              <a:t>Cognitive Demands at Set Up</a:t>
            </a:r>
            <a:endParaRPr b="0" lang="en-US" sz="3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0" name="Object 2"/>
          <p:cNvGraphicFramePr/>
          <p:nvPr/>
        </p:nvGraphicFramePr>
        <p:xfrm>
          <a:off x="674640" y="1822320"/>
          <a:ext cx="695664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1822320"/>
                    <a:ext cx="695664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Box 4"/>
          <p:cNvSpPr/>
          <p:nvPr/>
        </p:nvSpPr>
        <p:spPr>
          <a:xfrm>
            <a:off x="4495680" y="594360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Stein, Grover, &amp; Henningsen, 1996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320000"/>
                </a:solidFill>
                <a:latin typeface="Arial"/>
              </a:rPr>
              <a:t>Assessing Student Learning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Task &amp; Set-Up        Implementation         Student Learning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38080" y="251460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990720" y="2514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High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581280" y="251460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733920" y="2514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High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838080" y="365760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990720" y="3657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High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3581280" y="365760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733920" y="3657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Low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2209680" y="2819520"/>
            <a:ext cx="129564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2209680" y="4038480"/>
            <a:ext cx="129564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6629400" y="2514600"/>
            <a:ext cx="1752480" cy="685800"/>
          </a:xfrm>
          <a:prstGeom prst="rect">
            <a:avLst/>
          </a:prstGeom>
          <a:solidFill>
            <a:srgbClr val="66ff66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6629400" y="3657600"/>
            <a:ext cx="17524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6629400" y="4952880"/>
            <a:ext cx="175248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838080" y="495288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3581280" y="495288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1066680" y="4952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Low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3733920" y="49528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Low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2209680" y="5334120"/>
            <a:ext cx="129564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4952880" y="2819520"/>
            <a:ext cx="167652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952880" y="4038480"/>
            <a:ext cx="167652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4952880" y="5334120"/>
            <a:ext cx="167652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6705720" y="2514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Significant Gains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670572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Moderate Gains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8" name="Text Box 27"/>
          <p:cNvSpPr/>
          <p:nvPr/>
        </p:nvSpPr>
        <p:spPr>
          <a:xfrm>
            <a:off x="6705720" y="5105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Lowest Gains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…….what are “good”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asks and question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at are the attributes of high level and low level tasks and question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ow do you define high level and low level questions and task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5DCC-9FC1-4335-B9A2-FE8FC8744224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ddress Bloom’s Taxonom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ve beyond memorization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r recall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y require students to: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Understand     --  Appl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alyze           -- Evaluat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reate            -- Remember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54" name="Picture 4" descr="Picture 1.png"/>
          <p:cNvPicPr/>
          <p:nvPr/>
        </p:nvPicPr>
        <p:blipFill>
          <a:blip r:embed="rId4"/>
          <a:stretch/>
        </p:blipFill>
        <p:spPr>
          <a:xfrm>
            <a:off x="6019920" y="1905120"/>
            <a:ext cx="2754360" cy="361476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9108-BC0F-4FB3-93D5-8D8F50C02DC6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re “open”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vite a variety of response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ave several acceptable answer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58" name="Picture 3" descr="BU005295.png"/>
          <p:cNvPicPr/>
          <p:nvPr/>
        </p:nvPicPr>
        <p:blipFill>
          <a:blip r:embed="rId4"/>
          <a:stretch/>
        </p:blipFill>
        <p:spPr>
          <a:xfrm>
            <a:off x="7162920" y="4800600"/>
            <a:ext cx="1417680" cy="1141560"/>
          </a:xfrm>
          <a:prstGeom prst="rect">
            <a:avLst/>
          </a:prstGeom>
          <a:ln w="0">
            <a:noFill/>
          </a:ln>
        </p:spPr>
      </p:pic>
      <p:sp>
        <p:nvSpPr>
          <p:cNvPr id="1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F797-3CD2-4C22-B8AE-08B47ABCEB2A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quire the manipulation of prior inform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X:  Carly has blue eyes.  Both of her parents have brown eyes.  What were the chances that Carly would inherit blue eyes?  How did this happen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838080" y="6019920"/>
            <a:ext cx="76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DE65-6ED3-4709-B079-5F346D37A871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volve students in observing and/or describing an event or objec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:  Discrepant events, demo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66" name="Picture 3" descr="hm00017_.wmf"/>
          <p:cNvPicPr/>
          <p:nvPr/>
        </p:nvPicPr>
        <p:blipFill>
          <a:blip r:embed="rId3"/>
          <a:stretch/>
        </p:blipFill>
        <p:spPr>
          <a:xfrm>
            <a:off x="7620120" y="4272120"/>
            <a:ext cx="950760" cy="147312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44E9-2578-4454-B87B-8E76058129CF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High Level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quire students to justify or explain their response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-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ce Wat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70" name="Picture 4" descr="j0186106.pict"/>
          <p:cNvPicPr/>
          <p:nvPr/>
        </p:nvPicPr>
        <p:blipFill>
          <a:blip r:embed="rId4"/>
          <a:stretch/>
        </p:blipFill>
        <p:spPr>
          <a:xfrm>
            <a:off x="6781680" y="4343400"/>
            <a:ext cx="1460520" cy="15238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C25A-8865-423F-BC30-6D80CB89B7EE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High Level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re divergen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quire students to take ownership of their own learn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74" name="Picture 4" descr="j0186152.pict"/>
          <p:cNvPicPr/>
          <p:nvPr/>
        </p:nvPicPr>
        <p:blipFill>
          <a:blip r:embed="rId3"/>
          <a:stretch/>
        </p:blipFill>
        <p:spPr>
          <a:xfrm>
            <a:off x="7086600" y="4495680"/>
            <a:ext cx="914400" cy="144324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40B6-B2AB-4DD4-BBF7-FC5657D3C2CF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y focus on questioning in tasks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e QUASAR projec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are the characteristics of “good” questions and task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dentifying and classifying tak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esigning a task based on appropriate cognitive deman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E34E-1A20-497A-AB76-FA686741E556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et’s practic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rite a “good” question or task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plain why this is a “good” question or  task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78" name="Picture 3" descr="BU005295.png"/>
          <p:cNvPicPr/>
          <p:nvPr/>
        </p:nvPicPr>
        <p:blipFill>
          <a:blip r:embed="rId3"/>
          <a:stretch/>
        </p:blipFill>
        <p:spPr>
          <a:xfrm>
            <a:off x="7543800" y="5257800"/>
            <a:ext cx="1025640" cy="825480"/>
          </a:xfrm>
          <a:prstGeom prst="rect">
            <a:avLst/>
          </a:prstGeom>
          <a:ln w="0">
            <a:noFill/>
          </a:ln>
        </p:spPr>
      </p:pic>
      <p:sp>
        <p:nvSpPr>
          <p:cNvPr id="1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B113-BC0B-4AC9-9106-ADF8A2F512DF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 conclusion: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)The collecting of evidence of student understandings and misconceptions is more important than a “correct” answer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2)The level of a question or a task is key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3)Students need to feel some uneasiness with a task to produce enduring understandings (cognitive demand)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56F9-1A83-4EE8-A029-644D8250ABCA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 Vision of K-12 Students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1EB8-2CF4-474C-BC7C-BF8798E70E29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914400" y="152388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00"/>
                </a:solidFill>
                <a:latin typeface="Arial"/>
              </a:rPr>
              <a:t>Food for</a:t>
            </a:r>
            <a:endParaRPr b="0" lang="en-US" sz="5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00"/>
                </a:solidFill>
                <a:latin typeface="Arial"/>
              </a:rPr>
              <a:t>Thought…</a:t>
            </a:r>
            <a:endParaRPr b="0" lang="en-US" sz="5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765000" y="4648320"/>
            <a:ext cx="837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level of questions/tasks are these students asking for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Eichinger,John. Activities Linking Science with Math 5-8. NSTA Press. 2009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Hannel,G.Ivan and Lee Hannel. Highly Effective Questioning. 2005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Implementing Standards-Based Mathematics Instruction, Stein, Smith, Hennjngsen &amp; Silver. 2009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Keely,Page and Joyce Tugel. Uncovering Student Ideas in Science. Vol 4. 2009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Sullivan, Peter and Pat Lilburn. Good Questions for Math Teaching. Sausalito,CA. Math Solutions Publications. 2002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Tips for Teachers: Asking Good Questions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	http://www.edb.utexas.edu/pbl/TIPS/question.html#hots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,  2001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14D4-0ED0-4558-A881-90D539D9B6CE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ontact us:</a:t>
            </a:r>
            <a:br>
              <a:rPr sz="4400"/>
            </a:b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Marjorie Graeff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Chester County Intermediate Unit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455 Boot Rd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Downingtown, PA 19335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484-237-5334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marjorieg@cciu.org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Cheryl Everett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Chester County Intermediate Unit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455 Boot Rd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Downingtown, PA 19335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484-237-5336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cheryle@cciu.org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AC16-2BE1-4941-9943-B32495EA89F0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Key Concept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)The collecting of evidence of student understandings and misconceptions is more important than a “correct” answer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2)The level of a question or a task is key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3)Students need to feel some uneasiness with a task to produce enduring understandings (cognitive demand)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1E0A-DD3A-4C25-A36D-A51D2AB6FCF1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"/>
              </a:rPr>
              <a:t>Let’s collect some evidence.</a:t>
            </a:r>
            <a:endParaRPr b="0" lang="en-US" sz="4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9C8B-FEBA-48E0-B6F8-92D3B2B42235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 and Pa Kettle Do Math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questions would you ask to determine Ma and Pa’s thinking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questions would you ask to cause Ma and Pa to realize they had misconceptions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would you clear up their misconceptions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E356-7945-4749-8E5C-FF0E643CA693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etting to the “root” of i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o what are the elements of a “good” question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nd how can these “good” questions become part of “good” task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FB4F-FFD1-4A9C-A85B-2E61551308BD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y Focus on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Questioning in Task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t the heart of teaching well is the core challenge of getting learners engaged in productive work.  Tasks are the sites for engaging students in core science and mathematical activities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QUASAR projec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4080" y="628200"/>
            <a:ext cx="776448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20000"/>
                </a:solidFill>
                <a:latin typeface="Chalkboard"/>
              </a:rPr>
              <a:t> </a:t>
            </a:r>
            <a:r>
              <a:rPr b="1" lang="en-US" sz="3400" spc="-1" strike="noStrike">
                <a:solidFill>
                  <a:srgbClr val="320000"/>
                </a:solidFill>
                <a:latin typeface="Chalkboard"/>
              </a:rPr>
              <a:t>Martha Task</a:t>
            </a:r>
            <a:endParaRPr b="0" lang="en-US" sz="3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800080"/>
            <a:ext cx="78566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330000"/>
                </a:solidFill>
                <a:latin typeface="Chalkboard"/>
              </a:rPr>
              <a:t>Martha was recarpeting her bedroom which was 15 feet long and 10 feet wide.  How many square feet of carpeting will she need to purchase?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0000"/>
                </a:solidFill>
                <a:latin typeface="Chalkboard"/>
                <a:ea typeface="Times New Roman"/>
              </a:rPr>
              <a:t>Stein, Smith, Henningsen, &amp; Silver, 2000, p. 1</a:t>
            </a:r>
            <a:endParaRPr b="0" lang="en-US" sz="17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23:16:14Z</dcterms:created>
  <dc:creator>Ron Antinori</dc:creator>
  <dc:description/>
  <dc:language>en-US</dc:language>
  <cp:lastModifiedBy>CCIU</cp:lastModifiedBy>
  <dcterms:modified xsi:type="dcterms:W3CDTF">2010-03-21T00:29:20Z</dcterms:modified>
  <cp:revision>86</cp:revision>
  <dc:subject/>
  <dc:title>How and Why to Ask Questions</dc:title>
</cp:coreProperties>
</file>