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AE1D-600F-4CD6-BFFF-5F2257879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19EE-3651-45C3-ADF2-A5B8859E7BD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write 1-2 “open” questions for their students.  Think-Pair-Sh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04F5-53AB-4A8F-82D7-51649E3BFE1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3A15-37E3-4C2D-B755-09EE6A1B251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7C16-8A76-4EFC-8DA7-0207611B3F9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3 year research study, QUASAR researchers coded the instructional tasks used in 144 lessons across four high-poverty middle schools.  These bars represent the percentage of task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ach of the levels of cognitive demand.   Teachers in these schools were engaging in professional development aimed at enhancing their classroom instr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5D1F-4AC9-4E74-AED8-1289CAE2ADB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is to show the Quasar research that points out that even if a high level task is not implemented as well as possible, it still results in more learning than using a low level task.  None of their research documented a case of a low level task raising to a level of high implementation.  This should be reassuring to teachers just beginning to use high level t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27AB-4CD0-4052-9BC5-FA2D9BA55DF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task cards.  Ask participants to sort out cards as to level of cognitive demand.  High, medium,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A334-3599-43C5-B7F7-52C181633A0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nfo into a memorized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Hand length and height activity (discussion questions- p. 7) for samples of these types of questions.- Participants are given 5 minutes to search and id these types of question in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to share out responses.– 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FDCE-48DF-49B7-A9F9-6290CEF1B55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reference activity- page 4,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Ms. Browns’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6BDA-5D9E-4F51-AFFD-9FB6622ED62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the manipulation of prior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There are 5 students standing together.  If you are the median of this group of 5 in height, who might the other 4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B967-1508-4B33-93B7-5166101BD96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participants to activity to find- 2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oda can and density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BDEE-2DCD-4731-B384-40CFF712528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4, #3… Is the relationship between hand sizes the same for people of all ages?  Of males and females? Explain your responses. How could we test these hypothes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6, #11 -  Do the statistics (mean, median, mode) help?  Does the graph help?  If so, 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7, discussion question #2-  According to your data, was height associated with hand length?  How did you know? Did one seem to cause the other? 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‘Measuring Penny” 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other options and extension on 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 to remember to reconnect to the original set of objectives—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4A68-22DD-40B9-B2CA-90F834D4532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5404-90EF-4238-92F0-0E4B37D73D4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articipants write the questions generated on post-it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 some success is also cru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E12B-B4AC-4AE8-89BE-B6FFE44B2E5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C212-1616-4353-85B4-936ACD940C3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emorized the algorithms, but did not understand the concept of why you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by 5 the unit has changed from one-- or repeated subtraction of 5 or you may think of grouping by 5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five’s are in 25, how many bundles of 5 can you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anipula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89C0-9592-4AB3-BC64-8CA8EDCC4EA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8294-75A6-40C3-A900-346285E34AF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BC4-F022-4771-BF48-AE966AF4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70E-ED84-4A2D-8CC6-0A299599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D4D-8A68-4CFA-8921-88781AB2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4C6-DDA0-4E65-A394-C543FDB0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315D-2507-4203-9B18-A55EACC8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C2D5-6B3F-4D37-9A7A-9EB9AB6D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C34C-552D-45C0-A966-F618324C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C9A2-C99A-4456-BBF1-4F1E4509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A910-3731-4BCB-B99E-08AFEE99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FE04-B04C-4173-884B-215CCB75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5F79-84FF-483C-AC40-3A4386F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E20-8AB7-4965-AC6C-1ECE733A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DB78-E3DC-4BF4-A243-894AB07C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B0D5-DE73-464E-84C9-CD2BD72D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79E5-3AE5-40FC-B423-6FD3377E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9C78-E683-4E6F-9503-79BE0025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AC0F-67E7-4DF2-8F67-BC3E14BD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0F4-4A5E-4BAF-A21D-BA8FD6E0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4E1-0ABD-4BFD-A358-647D323A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201-8143-4C12-80E0-49699E31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C5D-4AF0-4DEE-A0F1-91882272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7CBC-BF6C-4C6F-8E6F-1C0BCE3A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2F2-3F0B-43D0-987A-F10FAC74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F77-5F2B-4773-A219-315E7647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58B7-E8D8-40C9-B943-D53A5F1B3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AE75-4343-4F99-BC43-F7BE714DF05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timer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ormative%20assess%20%20probe.pdf" TargetMode="Externa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A-ZVCjfWf8" TargetMode="Externa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b.utexas.edu/pbl/TIPS/question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%20%20Pa%20Kettle%20Math%20copy.mo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w and Why to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sk Questions in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ath and Scien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STA Confere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rch 21, 2010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Cheryl Everett &amp; Marjorie Graeff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3" name="Picture 3" descr="LS00938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753080"/>
            <a:ext cx="609480" cy="8413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493B-1CF9-4836-B201-3373F3433F69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Chalkboard"/>
              </a:rPr>
              <a:t>Ms Brown’s Tasks</a:t>
            </a:r>
            <a:r>
              <a:rPr b="1" lang="en-US" sz="1700" spc="-1" strike="noStrike">
                <a:solidFill>
                  <a:srgbClr val="320000"/>
                </a:solidFill>
                <a:latin typeface="Chalkboard"/>
              </a:rPr>
              <a:t> </a:t>
            </a:r>
            <a:endParaRPr b="0" lang="en-US" sz="17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3581280"/>
            <a:ext cx="7777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76"/>
              </a:spcBef>
              <a:buClr>
                <a:srgbClr val="33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00"/>
                </a:solidFill>
                <a:latin typeface="Chalkboard"/>
                <a:ea typeface="Times New Roman"/>
              </a:rPr>
              <a:t>If Ms. Brown's students want their rabbits to have as much room as possible, how long should each of the sides of the pen be?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76"/>
              </a:spcBef>
              <a:buClr>
                <a:srgbClr val="33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00"/>
                </a:solidFill>
                <a:latin typeface="Chalkboard"/>
                <a:ea typeface="Times New Roman"/>
              </a:rPr>
              <a:t>How would you go about determining the pen with the most room for any amount of fencing?  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0000"/>
                </a:solidFill>
                <a:latin typeface="Chalkboard"/>
                <a:ea typeface="Times New Roman"/>
              </a:rPr>
              <a:t>Stein, Smith, Henningsen, &amp; Silver, 2000, p. 2</a:t>
            </a:r>
            <a:endParaRPr b="0" lang="en-US" sz="15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2133720"/>
            <a:ext cx="784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Chalkboard"/>
              </a:rPr>
              <a:t>Ms. Brown’s class will raise rabbits for their spring science fair.  They have 24 feet of fencing with which to build a rectangular rabbit pen in which they will keep the rabbits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20000"/>
                </a:solidFill>
                <a:latin typeface="Arial"/>
              </a:rPr>
              <a:t>Cognitive Demands at Set Up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674640" y="1822320"/>
          <a:ext cx="69566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822320"/>
                    <a:ext cx="69566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Box 4"/>
          <p:cNvSpPr/>
          <p:nvPr/>
        </p:nvSpPr>
        <p:spPr>
          <a:xfrm>
            <a:off x="4495680" y="594360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Stein, Grover, &amp; Henningsen, 1996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320000"/>
                </a:solidFill>
                <a:latin typeface="Arial"/>
              </a:rPr>
              <a:t>Assessing Student Learning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Task &amp; Set-Up        Implementation         Student Learning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2514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90720" y="2514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581280" y="2514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733920" y="2514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838080" y="3657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9907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581280" y="3657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339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209680" y="281952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2209680" y="403848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629400" y="2514600"/>
            <a:ext cx="1752480" cy="685800"/>
          </a:xfrm>
          <a:prstGeom prst="rect">
            <a:avLst/>
          </a:prstGeom>
          <a:solidFill>
            <a:srgbClr val="66ff66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6629400" y="3657600"/>
            <a:ext cx="17524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6629400" y="4952880"/>
            <a:ext cx="17524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838080" y="495288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3581280" y="495288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1066680" y="4952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3733920" y="4952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209680" y="533412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952880" y="281952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952880" y="403848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4952880" y="533412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67057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Significant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670572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Moderate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6705720" y="5105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est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…….what are “good”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asks and question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are the attributes of high level and low level tasks and question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do you define high level and low level questions and task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F19-D73D-4F8B-8A5A-D76BD7182714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ddress Bloom’s Taxonom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beyond memoriza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r recall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y require students to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nderstand     --  Appl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alyze           -- Evaluat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reate            -- Rememb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4" name="Picture 4" descr="Picture 1.png"/>
          <p:cNvPicPr/>
          <p:nvPr/>
        </p:nvPicPr>
        <p:blipFill>
          <a:blip r:embed="rId4"/>
          <a:stretch/>
        </p:blipFill>
        <p:spPr>
          <a:xfrm>
            <a:off x="6019920" y="1905120"/>
            <a:ext cx="2754360" cy="361476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93A9-F1CB-4983-8605-997782461ACE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e “open”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ite a variety of respons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ve several acceptable answer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8" name="Picture 3" descr="BU005295.png"/>
          <p:cNvPicPr/>
          <p:nvPr/>
        </p:nvPicPr>
        <p:blipFill>
          <a:blip r:embed="rId4"/>
          <a:stretch/>
        </p:blipFill>
        <p:spPr>
          <a:xfrm>
            <a:off x="7162920" y="4800600"/>
            <a:ext cx="1417680" cy="114156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E46C-5405-47E6-84A2-5910331502FB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the manipulation of prior inform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:  Carly has blue eyes.  Both of her parents have brown eyes.  What were the chances that Carly would inherit blue eyes?  How did this happen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38080" y="6019920"/>
            <a:ext cx="76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B015-E716-4579-B18F-3AF577BD6420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olve students in observing and/or describing an event or objec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:  Discrepant events, demo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66" name="Picture 3" descr="hm00017_.wmf"/>
          <p:cNvPicPr/>
          <p:nvPr/>
        </p:nvPicPr>
        <p:blipFill>
          <a:blip r:embed="rId3"/>
          <a:stretch/>
        </p:blipFill>
        <p:spPr>
          <a:xfrm>
            <a:off x="7620120" y="4272120"/>
            <a:ext cx="950760" cy="147312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87F1-CA95-4CE1-8825-D11D3A62541E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High Level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students to justify or explain their respons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ce Wa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0" name="Picture 4" descr="j0186106.pict"/>
          <p:cNvPicPr/>
          <p:nvPr/>
        </p:nvPicPr>
        <p:blipFill>
          <a:blip r:embed="rId4"/>
          <a:stretch/>
        </p:blipFill>
        <p:spPr>
          <a:xfrm>
            <a:off x="6781680" y="4343400"/>
            <a:ext cx="1460520" cy="15238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0321-4633-413B-A7A5-279F461B03D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High Level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e diverg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students to take ownership of their own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4" name="Picture 4" descr="j0186152.pict"/>
          <p:cNvPicPr/>
          <p:nvPr/>
        </p:nvPicPr>
        <p:blipFill>
          <a:blip r:embed="rId3"/>
          <a:stretch/>
        </p:blipFill>
        <p:spPr>
          <a:xfrm>
            <a:off x="7086600" y="4495680"/>
            <a:ext cx="914400" cy="144324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61D8-93BB-4F9C-B587-AA904762EA61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y focus on questioning in tasks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QUASAR proje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are the characteristics of “good” questions and tas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ing and classifying ta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signing a task based on appropriate cognitive dema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B627-2E10-4B49-B63B-BC977547F1CE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rite a “good” question or task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plain why this is a “good” question or  task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8" name="Picture 3" descr="BU005295.png"/>
          <p:cNvPicPr/>
          <p:nvPr/>
        </p:nvPicPr>
        <p:blipFill>
          <a:blip r:embed="rId3"/>
          <a:stretch/>
        </p:blipFill>
        <p:spPr>
          <a:xfrm>
            <a:off x="7543800" y="5257800"/>
            <a:ext cx="1025640" cy="82548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DDB7-C2DE-4A8A-A901-94340ADC2BA1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 conclusion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)The collecting of evidence of student understandings and misconceptions is more important than a “correct” answ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)The level of a question or a task is k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)Students need to feel some uneasiness with a task to produce enduring understandings (cognitive demand)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2BA8-4CC8-4127-BD65-55F669EEE79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Vision of K-12 Student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B6D5-446B-476F-A890-E26F384AA562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914400" y="15238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rial"/>
              </a:rPr>
              <a:t>Food for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rial"/>
              </a:rPr>
              <a:t>Thought…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765000" y="4648320"/>
            <a:ext cx="837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level of questions/tasks are these students asking for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Eichinger,John. Activities Linking Science with Math 5-8. NSTA Press. 2009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Hannel,G.Ivan and Lee Hannel. Highly Effective Questioning. 2005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Implementing Standards-Based Mathematics Instruction, Stein, Smith, Hennjngsen &amp; Silver. 2009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Keely,Page and Joyce Tugel. Uncovering Student Ideas in Science. Vol 4. 2009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ullivan, Peter and Pat Lilburn. Good Questions for Math Teaching. Sausalito,CA. Math Solutions Publications. 2002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Tips for Teachers: Asking Good Questions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	http://www.edb.utexas.edu/pbl/TIPS/question.html#hot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,  2001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F4F2-997B-4BD5-A4D6-6A6101FFB4D3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tact us:</a:t>
            </a:r>
            <a:br>
              <a:rPr sz="4400"/>
            </a:b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Marjorie Graeff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ster County Intermediate Uni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55 Boot Rd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Downingtown, PA 19335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84-237-5334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marjorieg@cciu.org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ryl Everet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ster County Intermediate Uni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55 Boot Rd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Downingtown, PA 19335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84-237-5336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ryle@cciu.org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11AE-73EC-40FB-A4E8-F4FB040CE82A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Key Concep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)The collecting of evidence of student understandings and misconceptions is more important than a “correct” answ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)The level of a question or a task is k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)Students need to feel some uneasiness with a task to produce enduring understandings (cognitive demand)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B785-D1B7-4D81-9A69-DA0985B7FEE5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"/>
              </a:rPr>
              <a:t>Let’s collect some evidence.</a:t>
            </a:r>
            <a:endParaRPr b="0" lang="en-US" sz="4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90CF-D1C7-49CF-A419-81D274F63A4C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 and Pa Kettle Do Mat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questions would you ask to determine Ma and Pa’s thinking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questions would you ask to cause Ma and Pa to realize they had misconception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would you clear up their misconception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20EB-F21E-4835-B0D5-16506C905E8C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etting to the “root” of i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o what are the elements of a “good” question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d how can these “good” questions become part of “good” task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0BA2-CAEC-4BD0-B0EE-DFAD3ACD8A2F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Focus on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estioning in Task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t the heart of teaching well is the core challenge of getting learners engaged in productive work.  Tasks are the sites for engaging students in core science and mathematical activiti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QUASAR projec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4080" y="628200"/>
            <a:ext cx="776448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20000"/>
                </a:solidFill>
                <a:latin typeface="Chalkboard"/>
              </a:rPr>
              <a:t> </a:t>
            </a:r>
            <a:r>
              <a:rPr b="1" lang="en-US" sz="3400" spc="-1" strike="noStrike">
                <a:solidFill>
                  <a:srgbClr val="320000"/>
                </a:solidFill>
                <a:latin typeface="Chalkboard"/>
              </a:rPr>
              <a:t>Martha Task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00080"/>
            <a:ext cx="78566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330000"/>
                </a:solidFill>
                <a:latin typeface="Chalkboard"/>
              </a:rPr>
              <a:t>Martha was recarpeting her bedroom which was 15 feet long and 10 feet wide.  How many square feet of carpeting will she need to purchase?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00"/>
                </a:solidFill>
                <a:latin typeface="Chalkboard"/>
                <a:ea typeface="Times New Roman"/>
              </a:rPr>
              <a:t>Stein, Smith, Henningsen, &amp; Silver, 2000, p. 1</a:t>
            </a:r>
            <a:endParaRPr b="0" lang="en-US" sz="17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23:16:14Z</dcterms:created>
  <dc:creator>Ron Antinori</dc:creator>
  <dc:description/>
  <dc:language>en-US</dc:language>
  <cp:lastModifiedBy>CCIU</cp:lastModifiedBy>
  <dcterms:modified xsi:type="dcterms:W3CDTF">2010-03-21T00:29:20Z</dcterms:modified>
  <cp:revision>86</cp:revision>
  <dc:subject/>
  <dc:title>How and Why to Ask Questions</dc:title>
</cp:coreProperties>
</file>