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1B11-278F-42CD-9C75-E96713AD8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A643-CDB1-492B-860B-EB3C5A13A38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write 1-2 “open” questions for their students.  Think-Pair-Sh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C315-8289-48AE-83E5-A7175D35314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527C-9657-4399-8B5E-61AC7590073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7D83-A100-47FF-B600-6FFF26B3D3C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3 year research study, QUASAR researchers coded the instructional tasks used in 144 lessons across four high-poverty middle schools.  These bars represent the percentage of task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ach of the levels of cognitive demand.   Teachers in these schools were engaging in professional development aimed at enhancing their classroom instr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F608-A256-4EC3-8A84-FBA2811C196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is to show the Quasar research that points out that even if a high level task is not implemented as well as possible, it still results in more learning than using a low level task.  None of their research documented a case of a low level task raising to a level of high implementation.  This should be reassuring to teachers just beginning to use high level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4B9-8D60-4701-827D-D6B79127CDD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task cards.  Ask participants to sort out cards as to level of cognitive demand.  High, medium,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A50-8DB1-4B64-9404-6A388F5B8E3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nfo into a memorized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Hand length and height activity (discussion questions- p. 7) for samples of these types of questions.- Participants are given 5 minutes to search and id these types of question in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to share out responses.– 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72B2-A8E2-441C-BB20-4D089B982DF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reference activity- page 4,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Ms. Browns’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DAC7-9124-4644-AEA4-22DB298C913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the manipulation of prior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There are 5 students standing together.  If you are the median of this group of 5 in height, who might the other 4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99DF-3ED3-47E8-977B-803B49F8FED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participants to activity to find- 2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oda can and density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39BE-B27C-4597-A69F-39C5DDB6FC1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4, #3… Is the relationship between hand sizes the same for people of all ages?  Of males and females? Explain your responses. How could we test these hypothes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6, #11 -  Do the statistics (mean, median, mode) help?  Does the graph help?  If so, 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7, discussion question #2-  According to your data, was height associated with hand length?  How did you know? Did one seem to cause the other? 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‘Measuring Penny” 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other options and extension on 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 to remember to reconnect to the original set of objectives—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28CC-8C75-4A92-A4F8-ABBBC8C2881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3651-A818-44CC-97F3-306D218BF24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articipants write the questions generated on post-it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some success is also cru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4597-3997-48E2-A976-77EE7D03753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9839-CB8D-4B83-A6D1-51D1D9ED087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emorized the algorithms, but did not understand the concept of why you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by 5 the unit has changed from one-- or repeated subtraction of 5 or you may think of grouping by 5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five’s are in 25, how many bundles of 5 can you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anipula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BB50-97D4-4B30-9425-85BA9064E02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29C2-A2A9-4B0B-8370-505005688A8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5D5-8545-4E5D-937C-6B5B6003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D16-6591-4B78-879B-2FAAE0F2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C53-721B-4A5E-80EC-958855BC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D36-C61F-4EA9-A782-C4873EBB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9713-4E7C-400A-B443-623F11A5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0E05-91C5-4C7F-ADFD-3E235BDE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3B39-5372-44F5-930C-8A8A1ACB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FE04-8299-479D-BE6A-7BDB7461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F169-1AB8-45B6-90D4-48633B91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DED5-9095-4CCA-BE33-469659CF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5FDF-FFF1-4F2C-9C30-04613432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F81-BB96-474B-9160-8D380F3E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824B-3636-4994-A831-DA413DA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F4CD-F687-41AC-87AF-B66FDE44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6656-CBB7-4040-BBF2-F4222D8C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127D-6A0B-4E54-A0FC-E1D7A061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37F2-C0EB-47E1-95BC-6FF246C8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52C-B31A-4521-9904-C21CC83A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0CD-D0E3-4D74-8817-55E673B8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49C-4612-4889-B5C5-17010A64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EA4-3A5E-44BF-901C-7284998D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125-1DE2-4B1E-9492-4B79569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602-EE3C-4C66-9DD5-45483742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346-59FD-47FA-819D-D277D927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2669-E727-472C-88D9-6BEF6553C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41A4-B80F-41AB-BF0A-C04FC199B338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timer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ormative%20assess%20%20probe.pdf" TargetMode="Externa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b.utexas.edu/pbl/TIPS/question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%20%20Pa%20Kettle%20Math%20copy.mo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and Why to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sk Questions i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ath and Scien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STA Confere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ch 21, 2010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Cheryl Everett &amp; 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3" name="Picture 3" descr="LS00938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753080"/>
            <a:ext cx="609480" cy="8413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66DF-AC54-422A-A5BA-082427D7C722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Chalkboard"/>
              </a:rPr>
              <a:t>Ms Brown’s Tasks</a:t>
            </a:r>
            <a:r>
              <a:rPr b="1" lang="en-US" sz="1700" spc="-1" strike="noStrike">
                <a:solidFill>
                  <a:srgbClr val="320000"/>
                </a:solidFill>
                <a:latin typeface="Chalkboard"/>
              </a:rPr>
              <a:t> </a:t>
            </a:r>
            <a:endParaRPr b="0" lang="en-US" sz="17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3581280"/>
            <a:ext cx="7777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If Ms. Brown's students want their rabbits to have as much room as possible, how long should each of the sides of the pen be?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How would you go about determining the pen with the most room for any amount of fencing?  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2</a:t>
            </a:r>
            <a:endParaRPr b="0" lang="en-US" sz="15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133720"/>
            <a:ext cx="784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Chalkboard"/>
              </a:rPr>
              <a:t>Ms. Brown’s class will raise rabbits for their spring science fair.  They have 24 feet of fencing with which to build a rectangular rabbit pen in which they will keep the rabbit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20000"/>
                </a:solidFill>
                <a:latin typeface="Arial"/>
              </a:rPr>
              <a:t>Cognitive Demands at Set Up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674640" y="1822320"/>
          <a:ext cx="69566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822320"/>
                    <a:ext cx="69566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Box 4"/>
          <p:cNvSpPr/>
          <p:nvPr/>
        </p:nvSpPr>
        <p:spPr>
          <a:xfrm>
            <a:off x="4495680" y="59436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Stein, Grover, &amp; Henningsen, 199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320000"/>
                </a:solidFill>
                <a:latin typeface="Arial"/>
              </a:rPr>
              <a:t>Assessing Student Learn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Task &amp; Set-Up        Implementation         Student Learning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907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5812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7339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8380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907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5812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209680" y="28195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2209680" y="403848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629400" y="2514600"/>
            <a:ext cx="175248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629400" y="365760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629400" y="495288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8380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35812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1066680" y="4952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733920" y="49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209680" y="53341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952880" y="28195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952880" y="403848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4952880" y="53341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67057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Significan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670572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Moderate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6705720" y="5105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es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…….what are “good”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sks and question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the attributes of high level and low level tasks and question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do you define high level and low level questions and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389-2F21-4243-859A-350C249CCE19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ddress Bloom’s Taxonom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beyond memoriza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recall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require students to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nderstand     --  Appl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alyze           -- Evaluat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reate            -- Rememb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4" name="Picture 4" descr="Picture 1.png"/>
          <p:cNvPicPr/>
          <p:nvPr/>
        </p:nvPicPr>
        <p:blipFill>
          <a:blip r:embed="rId4"/>
          <a:stretch/>
        </p:blipFill>
        <p:spPr>
          <a:xfrm>
            <a:off x="6019920" y="1905120"/>
            <a:ext cx="2754360" cy="361476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F551-01AD-4D96-A85D-F78C59A4E7C5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“open”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ite a variety of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ve several acceptable answe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8" name="Picture 3" descr="BU005295.png"/>
          <p:cNvPicPr/>
          <p:nvPr/>
        </p:nvPicPr>
        <p:blipFill>
          <a:blip r:embed="rId4"/>
          <a:stretch/>
        </p:blipFill>
        <p:spPr>
          <a:xfrm>
            <a:off x="7162920" y="4800600"/>
            <a:ext cx="1417680" cy="114156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B616-CE95-4B7F-9654-A041CC69C624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the manipulation of prior inform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:  Carly has blue eyes.  Both of her parents have brown eyes.  What were the chances that Carly would inherit blue eyes?  How did this happe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38080" y="6019920"/>
            <a:ext cx="76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BBEB-2881-4E9D-9851-E18C5754586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olve students in observing and/or describing an event or obj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:  Discrepant events, demo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66" name="Picture 3" descr="hm00017_.wmf"/>
          <p:cNvPicPr/>
          <p:nvPr/>
        </p:nvPicPr>
        <p:blipFill>
          <a:blip r:embed="rId3"/>
          <a:stretch/>
        </p:blipFill>
        <p:spPr>
          <a:xfrm>
            <a:off x="7620120" y="4272120"/>
            <a:ext cx="950760" cy="147312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44E1-21D0-4E1C-9FB6-27336CC91617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justify or explain their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e Wa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0" name="Picture 4" descr="j0186106.pict"/>
          <p:cNvPicPr/>
          <p:nvPr/>
        </p:nvPicPr>
        <p:blipFill>
          <a:blip r:embed="rId4"/>
          <a:stretch/>
        </p:blipFill>
        <p:spPr>
          <a:xfrm>
            <a:off x="6781680" y="434340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7A97-F326-475A-BEC2-69A213198AF0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diverg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take ownership of their own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4" name="Picture 4" descr="j0186152.pict"/>
          <p:cNvPicPr/>
          <p:nvPr/>
        </p:nvPicPr>
        <p:blipFill>
          <a:blip r:embed="rId3"/>
          <a:stretch/>
        </p:blipFill>
        <p:spPr>
          <a:xfrm>
            <a:off x="7086600" y="4495680"/>
            <a:ext cx="914400" cy="144324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5B2F-A8A8-4E15-A57A-EA8A15C1D093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y focus on questioning in tasks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QUASAR proj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are the characteristics of “good” questions and tas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ing and classifying ta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signing a task based on appropriate cognitive dema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8A73-48A0-4676-9797-A925AF4F685A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rite a “good” question or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plain why this is a “good” question or 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8" name="Picture 3" descr="BU005295.png"/>
          <p:cNvPicPr/>
          <p:nvPr/>
        </p:nvPicPr>
        <p:blipFill>
          <a:blip r:embed="rId3"/>
          <a:stretch/>
        </p:blipFill>
        <p:spPr>
          <a:xfrm>
            <a:off x="7543800" y="5257800"/>
            <a:ext cx="1025640" cy="82548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E96-F646-4415-9292-5E0F5501D38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conclusion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3046-DC1D-42EB-93DC-7FEC5A474C24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Vision of K-12 Stud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E0DD-3916-49B5-AD79-6B96B8E82503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914400" y="15238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Food for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Thought…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765000" y="4648320"/>
            <a:ext cx="837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level of questions/tasks are these students asking for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ichinger,John. Activities Linking Science with Math 5-8. NSTA Press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nel,G.Ivan and Lee Hannel. Highly Effective Questioning. 2005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mplementing Standards-Based Mathematics Instruction, Stein, Smith, Hennjngsen &amp; Silver. 2009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eely,Page and Joyce Tugel. Uncovering Student Ideas in Science. Vol 4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ullivan, Peter and Pat Lilburn. Good Questions for Math Teaching. Sausalito,CA. Math Solutions Publications. 2002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Tips for Teachers: Asking Good Questions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	http://www.edb.utexas.edu/pbl/TIPS/question.html#hot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,  2001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35F9-8A29-401F-9D2C-BB6A3BE9ACA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tact us:</a:t>
            </a:r>
            <a:br>
              <a:rPr sz="4400"/>
            </a:b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4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g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 Everet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e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2E81-02BF-4F2F-A433-B4AC6A8D3153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3CF2-1628-40F2-B4F1-88E9D5250EB9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"/>
              </a:rPr>
              <a:t>Let’s collect some evidence.</a:t>
            </a:r>
            <a:endParaRPr b="0" lang="en-US" sz="4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B51-B66A-4391-8345-19DF97A7030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 and Pa Kettle Do Mat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determine Ma and Pa’s thinking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cause Ma and Pa to realize they had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would you clear up their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BCC0-E326-47F0-95A9-BBC1832092CB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to the “root” of i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 what are the elements of a “good” questi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how can these “good” questions become part of “good”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4036-CDEA-4CD0-BC8B-DF8DF8CC28F3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Focus o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estioning in Task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t the heart of teaching well is the core challenge of getting learners engaged in productive work.  Tasks are the sites for engaging students in core science and mathematical activiti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QUASAR projec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4080" y="628200"/>
            <a:ext cx="776448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20000"/>
                </a:solidFill>
                <a:latin typeface="Chalkboard"/>
              </a:rPr>
              <a:t> </a:t>
            </a:r>
            <a:r>
              <a:rPr b="1" lang="en-US" sz="3400" spc="-1" strike="noStrike">
                <a:solidFill>
                  <a:srgbClr val="320000"/>
                </a:solidFill>
                <a:latin typeface="Chalkboard"/>
              </a:rPr>
              <a:t>Martha Task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00080"/>
            <a:ext cx="7856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330000"/>
                </a:solidFill>
                <a:latin typeface="Chalkboard"/>
              </a:rPr>
              <a:t>Martha was recarpeting her bedroom which was 15 feet long and 10 feet wide.  How many square feet of carpeting will she need to purchase?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1</a:t>
            </a:r>
            <a:endParaRPr b="0" lang="en-US" sz="1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3:16:14Z</dcterms:created>
  <dc:creator>Ron Antinori</dc:creator>
  <dc:description/>
  <dc:language>en-US</dc:language>
  <cp:lastModifiedBy>CCIU</cp:lastModifiedBy>
  <dcterms:modified xsi:type="dcterms:W3CDTF">2010-03-21T00:29:20Z</dcterms:modified>
  <cp:revision>86</cp:revision>
  <dc:subject/>
  <dc:title>How and Why to Ask Questions</dc:title>
</cp:coreProperties>
</file>