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218B-A26F-4C99-9F24-42B0E07EA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E46C-261E-43A3-B2D9-81F59181A11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write 1-2 “open” questions for their students.  Think-Pair-Sh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2608-D605-4382-934B-1BC4FE9D4EB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496B-C99B-407E-9BA8-C7EEBC65C3B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4C52-9CB6-4F53-99B2-439E956544A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3 year research study, QUASAR researchers coded the instructional tasks used in 144 lessons across four high-poverty middle schools.  These bars represent the percentage of task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ach of the levels of cognitive demand.   Teachers in these schools were engaging in professional development aimed at enhancing their classroom instr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F3DD-300E-4121-BD71-E7D86081436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is to show the Quasar research that points out that even if a high level task is not implemented as well as possible, it still results in more learning than using a low level task.  None of their research documented a case of a low level task raising to a level of high implementation.  This should be reassuring to teachers just beginning to use high level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89D5-4555-498D-8C79-068EC656988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task cards.  Ask participants to sort out cards as to level of cognitive demand.  High, medium,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CE7B-5400-4DFC-AE33-B86B9241A9C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nfo into a memorized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Hand length and height activity (discussion questions- p. 7) for samples of these types of questions.- Participants are given 5 minutes to search and id these types of question in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to share out responses.– 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6A53-8CB9-4EF1-A143-41BC664C79B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reference activity- page 4,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Ms. Browns’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356F-4D3D-475A-9A4E-28B78B9CBC3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the manipulation of prior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There are 5 students standing together.  If you are the median of this group of 5 in height, who might the other 4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9B16-46DC-4A01-9922-DDBF1C8A8FC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participants to activity to find- 2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oda can and density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336C-B677-4D7E-A769-98B2AB7CDE9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4, #3… Is the relationship between hand sizes the same for people of all ages?  Of males and females? Explain your responses. How could we test these hypothes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6, #11 -  Do the statistics (mean, median, mode) help?  Does the graph help?  If so, 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7, discussion question #2-  According to your data, was height associated with hand length?  How did you know? Did one seem to cause the other? 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‘Measuring Penny” 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other options and extension on 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 to remember to reconnect to the original set of objectives—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90B-9A56-4D4D-98A8-5D3E172BB2F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1B9-4481-4B6A-97E1-BF62A8B82FC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articipants write the questions generated on post-it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some success is also cru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8C73-29C5-431A-87D2-A6D67B35E55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DB98-3B97-428B-A5B7-797EE94D202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emorized the algorithms, but did not understand the concept of why you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by 5 the unit has changed from one-- or repeated subtraction of 5 or you may think of grouping by 5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five’s are in 25, how many bundles of 5 can you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anipula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930-1B11-4B68-9193-59A46A98B65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1924-45C2-4723-8A56-18085EDF315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014-EF4E-47F4-B74D-1BD9A9D8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F87-A761-4A0F-A214-FDB7BA25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BC8-E23A-4F9A-A9CD-8152F7AD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56B-B8DD-4E79-BBF4-4CF5CF0A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D76D-EF8B-476A-9F49-CEA98C7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DA1E-0E40-4F72-A1D0-85FD3895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8F5A-DAF7-4278-AAA2-8BB6BC30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0850-D78D-4475-8C6C-CA505E15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6DC5-EB92-4C8B-91B7-6FA6F617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41C0-44B9-40F2-9D36-5BDEBCE8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0B03-8FBE-4DEF-8232-A4A0CC96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341-1726-413F-8C63-D1149640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B11A-BBF4-4CAA-A11B-7B788EC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A88-6877-4F26-B01A-4B80677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963B-2FD4-4C73-9EAE-A93F2E13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D48-8E1D-4C99-976E-332ECF8D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D66D-6BF8-4491-8B05-1E3D66FB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2DE-3609-4289-BE60-7F760B05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3C2-9A2B-4D80-940B-E464C62E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ACD-8D29-4627-B41D-1BFC5B56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564-3B7D-4494-A622-47F8238F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9E1-A098-4D80-A8A0-DC1637C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2DD-93CE-4C4D-9A66-6D4D1457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BBA-6EA2-4413-BC97-BE47B5E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407E-89E7-4D41-BA94-A0A32BEFA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EBAC-2AE8-4B34-9F6B-645AF31193B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timer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ormative%20assess%20%20probe.pdf" TargetMode="Externa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b.utexas.edu/pbl/TIPS/question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%20%20Pa%20Kettle%20Math%20copy.m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and Why to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sk Questions i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ath and Scien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STA Confere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ch 21, 2010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Cheryl Everett &amp; 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3" name="Picture 3" descr="LS00938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753080"/>
            <a:ext cx="609480" cy="8413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9519-E206-4925-8094-55C6DC81DEEC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Chalkboard"/>
              </a:rPr>
              <a:t>Ms Brown’s Tasks</a:t>
            </a:r>
            <a:r>
              <a:rPr b="1" lang="en-US" sz="1700" spc="-1" strike="noStrike">
                <a:solidFill>
                  <a:srgbClr val="320000"/>
                </a:solidFill>
                <a:latin typeface="Chalkboard"/>
              </a:rPr>
              <a:t> </a:t>
            </a:r>
            <a:endParaRPr b="0" lang="en-US" sz="17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7777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If Ms. Brown's students want their rabbits to have as much room as possible, how long should each of the sides of the pen be?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How would you go about determining the pen with the most room for any amount of fencing?  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2</a:t>
            </a:r>
            <a:endParaRPr b="0" lang="en-US" sz="15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133720"/>
            <a:ext cx="784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Chalkboard"/>
              </a:rPr>
              <a:t>Ms. Brown’s class will raise rabbits for their spring science fair.  They have 24 feet of fencing with which to build a rectangular rabbit pen in which they will keep the rabbit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20000"/>
                </a:solidFill>
                <a:latin typeface="Arial"/>
              </a:rPr>
              <a:t>Cognitive Demands at Set Up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674640" y="1822320"/>
          <a:ext cx="69566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822320"/>
                    <a:ext cx="69566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4"/>
          <p:cNvSpPr/>
          <p:nvPr/>
        </p:nvSpPr>
        <p:spPr>
          <a:xfrm>
            <a:off x="4495680" y="59436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Stein, Grover, &amp; Henningsen, 199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320000"/>
                </a:solidFill>
                <a:latin typeface="Arial"/>
              </a:rPr>
              <a:t>Assessing Student Learn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Task &amp; Set-Up        Implementation         Student Learning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907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5812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7339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8380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907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5812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209680" y="28195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209680" y="403848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629400" y="2514600"/>
            <a:ext cx="175248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629400" y="365760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29400" y="495288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8380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5812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1066680" y="4952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733920" y="49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209680" y="53341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952880" y="28195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952880" y="403848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952880" y="53341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67057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Significan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670572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Moderate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670572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es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…….what are “good”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sks and question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the attributes of high level and low level tasks and question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do you define high level and low level questions and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D5C0-A8DB-4FB5-9210-CBC679BFD15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ddress Bloom’s Taxonom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beyond memoriza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recall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require students to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nderstand     --  Appl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alyze           -- Evaluat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reate            -- Rememb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4" name="Picture 4" descr="Picture 1.png"/>
          <p:cNvPicPr/>
          <p:nvPr/>
        </p:nvPicPr>
        <p:blipFill>
          <a:blip r:embed="rId4"/>
          <a:stretch/>
        </p:blipFill>
        <p:spPr>
          <a:xfrm>
            <a:off x="6019920" y="1905120"/>
            <a:ext cx="2754360" cy="361476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B603-4DD6-4738-A949-D37A7800D50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“open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ite a variety of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ve several acceptable answe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8" name="Picture 3" descr="BU005295.png"/>
          <p:cNvPicPr/>
          <p:nvPr/>
        </p:nvPicPr>
        <p:blipFill>
          <a:blip r:embed="rId4"/>
          <a:stretch/>
        </p:blipFill>
        <p:spPr>
          <a:xfrm>
            <a:off x="7162920" y="4800600"/>
            <a:ext cx="1417680" cy="114156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D24E-91E9-47B8-A5FB-D28D26C351E3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the manipulation of prior inform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:  Carly has blue eyes.  Both of her parents have brown eyes.  What were the chances that Carly would inherit blue eyes?  How did this happe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38080" y="6019920"/>
            <a:ext cx="76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8428-4FD6-474C-8164-91BE414EF4CF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olve students in observing and/or describing an event or obj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:  Discrepant events, demo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66" name="Picture 3" descr="hm00017_.wmf"/>
          <p:cNvPicPr/>
          <p:nvPr/>
        </p:nvPicPr>
        <p:blipFill>
          <a:blip r:embed="rId3"/>
          <a:stretch/>
        </p:blipFill>
        <p:spPr>
          <a:xfrm>
            <a:off x="7620120" y="4272120"/>
            <a:ext cx="950760" cy="147312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F754-C6B9-4FB0-9E37-805A0C2BAE90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justify or explain their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e Wa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0" name="Picture 4" descr="j0186106.pict"/>
          <p:cNvPicPr/>
          <p:nvPr/>
        </p:nvPicPr>
        <p:blipFill>
          <a:blip r:embed="rId4"/>
          <a:stretch/>
        </p:blipFill>
        <p:spPr>
          <a:xfrm>
            <a:off x="6781680" y="434340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ACC2-5229-4769-B93D-18E94E3DCE59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diverg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take ownership of their own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4" name="Picture 4" descr="j0186152.pict"/>
          <p:cNvPicPr/>
          <p:nvPr/>
        </p:nvPicPr>
        <p:blipFill>
          <a:blip r:embed="rId3"/>
          <a:stretch/>
        </p:blipFill>
        <p:spPr>
          <a:xfrm>
            <a:off x="7086600" y="4495680"/>
            <a:ext cx="914400" cy="144324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5582-A2CC-48F4-911A-8B74EB567C68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y focus on questioning in tasks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QUASAR proj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are the characteristics of “good” questions and tas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ing and classifying ta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signing a task based on appropriate cognitive dema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9A87-6001-433F-B54F-E9A0CF8653D8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rite a “good” question or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plain why this is a “good” question or 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8" name="Picture 3" descr="BU005295.png"/>
          <p:cNvPicPr/>
          <p:nvPr/>
        </p:nvPicPr>
        <p:blipFill>
          <a:blip r:embed="rId3"/>
          <a:stretch/>
        </p:blipFill>
        <p:spPr>
          <a:xfrm>
            <a:off x="7543800" y="5257800"/>
            <a:ext cx="1025640" cy="82548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5EE-5F07-4DE7-A2CB-BC4AB0E538F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conclusion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B4DF-F59B-417D-96B9-470FE5033C4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Vision of K-12 Stud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6C88-1124-4FD7-B567-12675648A2A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914400" y="1523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Food for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Thought…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765000" y="4648320"/>
            <a:ext cx="837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level of questions/tasks are these students asking for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ichinger,John. Activities Linking Science with Math 5-8. NSTA Press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nel,G.Ivan and Lee Hannel. Highly Effective Questioning. 2005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mplementing Standards-Based Mathematics Instruction, Stein, Smith, Hennjngsen &amp; Silver. 2009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eely,Page and Joyce Tugel. Uncovering Student Ideas in Science. Vol 4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ullivan, Peter and Pat Lilburn. Good Questions for Math Teaching. Sausalito,CA. Math Solutions Publications. 2002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Tips for Teachers: Asking Good Questions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	http://www.edb.utexas.edu/pbl/TIPS/question.html#hot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,  2001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BFFA-7FF2-449F-9CDC-AC134E9E1EBC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tact us:</a:t>
            </a:r>
            <a:br>
              <a:rPr sz="4400"/>
            </a:b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4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g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 Everet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e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66ED-925E-4021-A284-B5FCFC14D409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1E05-798F-4D15-AA36-27C0C1BF837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"/>
              </a:rPr>
              <a:t>Let’s collect some evidence.</a:t>
            </a:r>
            <a:endParaRPr b="0" lang="en-US" sz="4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8CF0-831D-4F30-B3EA-C4DAD6BFE891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 and Pa Kettle Do Mat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determine Ma and Pa’s thinking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cause Ma and Pa to realize they had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would you clear up their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9BFD-6218-4B13-A773-7F92A8685422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to the “root” of i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 what are the elements of a “good” questi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how can these “good” questions become part of “good”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C21-C551-462E-ABF3-D56D91D271B9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Focus o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estioning in Task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t the heart of teaching well is the core challenge of getting learners engaged in productive work.  Tasks are the sites for engaging students in core science and mathematical activiti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QUASAR projec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4080" y="628200"/>
            <a:ext cx="776448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20000"/>
                </a:solidFill>
                <a:latin typeface="Chalkboard"/>
              </a:rPr>
              <a:t> </a:t>
            </a:r>
            <a:r>
              <a:rPr b="1" lang="en-US" sz="3400" spc="-1" strike="noStrike">
                <a:solidFill>
                  <a:srgbClr val="320000"/>
                </a:solidFill>
                <a:latin typeface="Chalkboard"/>
              </a:rPr>
              <a:t>Martha Task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00080"/>
            <a:ext cx="7856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330000"/>
                </a:solidFill>
                <a:latin typeface="Chalkboard"/>
              </a:rPr>
              <a:t>Martha was recarpeting her bedroom which was 15 feet long and 10 feet wide.  How many square feet of carpeting will she need to purchase?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1</a:t>
            </a:r>
            <a:endParaRPr b="0" lang="en-US" sz="1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3:16:14Z</dcterms:created>
  <dc:creator>Ron Antinori</dc:creator>
  <dc:description/>
  <dc:language>en-US</dc:language>
  <cp:lastModifiedBy>CCIU</cp:lastModifiedBy>
  <dcterms:modified xsi:type="dcterms:W3CDTF">2010-03-21T00:29:20Z</dcterms:modified>
  <cp:revision>86</cp:revision>
  <dc:subject/>
  <dc:title>How and Why to Ask Questions</dc:title>
</cp:coreProperties>
</file>